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D4E-A859-4A06-BE09-17518DB0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033-6AC7-4C3A-93A7-A3778044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6DE-3694-476C-BEBD-D5D1D81F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A4F-797B-47F3-8048-A15B01BF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FDDF-F2F9-4445-A9C9-0FFE3694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D9F1-83B9-493C-B9ED-BB70FB63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EDA8-C383-48DA-BDD6-A546C322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2A42-B5DE-4B69-A360-79E278B0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BA63-CBCA-42EE-89E9-12839B5C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7850-12B1-4D06-ADDB-CEE8DD34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0ABA-F46E-4D06-9C52-9EDE91D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023-7EEF-4163-B1B7-A224ED08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188E-26DA-4AF2-9DAD-23E54846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BFE3-61BD-40BC-B3CB-A22DF75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BB31-BF61-490C-9F5B-BDAED27D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1E15-3A78-408C-9858-E796581E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071F-F3A0-40F6-A341-F41D1DE9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D06-AF3D-4105-A66F-6713DE8F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5EC-680B-4632-AB72-50880635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14F-2941-4E82-92D9-7F2C7049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336-D2CB-4A9B-8B49-EE8B3ED2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FBA-9CE1-4DC6-A538-9B8712D5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3F2-9C30-4C44-99A6-4C150D0D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F65-5346-4891-9EED-B7897F25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4A1E-D1B5-4833-8D3A-0D49713E36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C449-B7E0-4F10-A820-999AF58686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y Future Deca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Kayla Ang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your job look in ten yea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ill be in the prime of my career in tha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am interested in peeking into the fu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be I have chosen a job you have as wel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have chosen three careers I may 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gistered Nur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 – 2,619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8 – 3,200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ce – 582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2% Increa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ered Nurses make up 81% of the increasing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43400" y="1066680"/>
          <a:ext cx="716292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066680"/>
                    <a:ext cx="716292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594320" y="4343400"/>
          <a:ext cx="4549680" cy="30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4343400"/>
                    <a:ext cx="454968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urse Ai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 – 1,4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8 – 1,74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ce – 2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% Incr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rse Aides take up 20% of the increasing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181480" y="1219320"/>
          <a:ext cx="586764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19320"/>
                    <a:ext cx="586764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70280" y="4038480"/>
          <a:ext cx="4473720" cy="298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70280" y="4038480"/>
                    <a:ext cx="4473720" cy="29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uter Software Engine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 – 5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8 – 6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ce – 1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4% Incr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Software Engineers make up 72% of the increasing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724280" y="1066680"/>
          <a:ext cx="6477120" cy="35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66680"/>
                    <a:ext cx="647712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648320" y="4076640"/>
          <a:ext cx="416880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076640"/>
                    <a:ext cx="416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ree jobs I hoped in pursuing will have amazing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8:58:58Z</dcterms:created>
  <dc:creator>Kayla</dc:creator>
  <dc:description/>
  <dc:language>en-US</dc:language>
  <cp:lastModifiedBy>Kayla</cp:lastModifiedBy>
  <dcterms:modified xsi:type="dcterms:W3CDTF">2010-03-11T17:54:41Z</dcterms:modified>
  <cp:revision>4</cp:revision>
  <dc:subject/>
  <dc:title>Future Decade</dc:title>
</cp:coreProperties>
</file>